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FD5E-E885-4AB5-90E7-491B21D4A68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67DE-27E0-4CA1-800E-A66BB98FAB29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E372-36DD-435A-8FB6-8314E35396C1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ttack biological evolution (macroevolution), chemical evolution, and naturalistic philoso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rgue for evidences of intelligent design in cells, organisms, Earth and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often accept the “Big Bang,” cosmic evolution, and ge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7709-13E4-4BB0-9CB3-C34914421E69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tend to dodge the issue of the age of the Earth (some explicitly accept an “Old Earth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generally avoid any discussion of the Bible, especially the Genesis record of Creation, Curse, and Flood; tend not to identify     who the “Designer”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1C68-16FF-41FE-929E-AFCC2C910142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BB33-E7E2-4A6A-A635-060402701E7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6D30-4D63-406F-A901-BCF9B2325E4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593F-A056-4DCF-A784-B2FA34DC6CD3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C8C4-0A7D-459A-A169-5625E2F44E01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43F0-7B99-4641-BDDF-D122649C4DAE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 and New Testa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2012-DE17-4543-B8EA-9BA6B5EB164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Cosmic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Chem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C4CB-9176-4FC3-AFDA-0FBF287C01B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Bi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Cultur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 </a:t>
            </a:r>
            <a:r>
              <a:rPr b="0" lang="en-US" sz="1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D91A-AD83-4AFC-8BB4-DD404F275D81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A9A8-F005-4F52-8074-32C5D110E96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B794-B72B-4ACC-8E19-79F38D07885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75A7-6EB4-4B8C-AAC1-7220D3B88435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609480" y="1797120"/>
            <a:ext cx="11773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1282680" y="4915080"/>
            <a:ext cx="10426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6090496" presetSubtype="8325657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6090496" presetSubtype="860506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4254480" y="43164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520560" y="188604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ttack biological evolution (macroevolution), chemical evolution, and naturalistic philosop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1155600" y="4203720"/>
            <a:ext cx="106934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rgue for evidences of intelligent design in cells, organisms, Earth and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20560" y="651528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often accept the “Big Bang,” cosmic evolution, and ge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"/>
          <p:cNvSpPr/>
          <p:nvPr/>
        </p:nvSpPr>
        <p:spPr>
          <a:xfrm>
            <a:off x="5278320" y="795240"/>
            <a:ext cx="4496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380880" y="1733400"/>
            <a:ext cx="122302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tend to dodge the issue of the age of the Earth (some explicitly accept an “Old Earth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863640" y="4521240"/>
            <a:ext cx="1126476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generally avoid any discussion of the Bible, especially the Genesis record of Creation, Curse, and Flood; tend not to identify     who the “Designer” 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752560" y="6084720"/>
            <a:ext cx="3162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940120" y="805176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6092416" presetSubtype="87070592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5075280" y="44172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2044800" y="1866960"/>
            <a:ext cx="89024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1317600" y="4979880"/>
            <a:ext cx="98298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6092800" presetSubtype="872336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6092800" presetSubtype="87233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127080" y="1133640"/>
          <a:ext cx="12750840" cy="8461080"/>
        </p:xfrm>
        <a:graphic>
          <a:graphicData uri="http://schemas.openxmlformats.org/drawingml/2006/table">
            <a:tbl>
              <a:tblPr/>
              <a:tblGrid>
                <a:gridCol w="1359000"/>
                <a:gridCol w="11391840"/>
              </a:tblGrid>
              <a:tr h="1178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These are the generations of the heavens and the eart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when they were created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5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This is the book of the generations of Ada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se are the generations of No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0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These are the generations of the sons of Noa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Shem, Ham, and Japhet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1: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These are the generations of She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1:2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These are the generations of Ter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2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These are the generations of Ishmae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25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These are the generations of Isaac, Abraham’s son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36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These are the generations of Esau (that is, Edom)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3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These are the generations of Esau, the father of the Edomites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37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These are the generations of Jacob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81"/>
          <p:cNvSpPr/>
          <p:nvPr/>
        </p:nvSpPr>
        <p:spPr>
          <a:xfrm>
            <a:off x="2399040" y="219600"/>
            <a:ext cx="8219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58e28"/>
                </a:solidFill>
                <a:uFillTx/>
                <a:latin typeface="Trebuchet MS Bold"/>
                <a:ea typeface="Trebuchet MS Bold"/>
              </a:rPr>
              <a:t>Genesis: The Literary F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2"/>
          <p:cNvSpPr/>
          <p:nvPr/>
        </p:nvSpPr>
        <p:spPr>
          <a:xfrm>
            <a:off x="5140440" y="520560"/>
            <a:ext cx="271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825480" y="2013120"/>
            <a:ext cx="11341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133720" y="5092560"/>
            <a:ext cx="8724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enesis 1 and 2 are confirmed by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7040" y="6366240"/>
            <a:ext cx="181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0000"/>
                </a:solidFill>
                <a:latin typeface="Trebuchet MS Bold"/>
                <a:ea typeface="Trebuchet MS Bold"/>
              </a:rPr>
              <a:t>Exod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416520" y="7617240"/>
            <a:ext cx="177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40800"/>
                </a:solidFill>
                <a:latin typeface="Trebuchet MS Bold"/>
                <a:ea typeface="Trebuchet MS Bold"/>
              </a:rPr>
              <a:t>Psal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750600" y="8785440"/>
            <a:ext cx="1501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4940"/>
                </a:solidFill>
                <a:latin typeface="Trebuchet MS Bold"/>
                <a:ea typeface="Trebuchet MS Bold"/>
              </a:rPr>
              <a:t>Isa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2851200" y="6372720"/>
            <a:ext cx="223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Jerem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3130200" y="7617240"/>
            <a:ext cx="221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Matthe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3500640" y="8785440"/>
            <a:ext cx="203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Rom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5900040" y="637272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a531"/>
                </a:solidFill>
                <a:latin typeface="Trebuchet MS Bold"/>
                <a:ea typeface="Trebuchet MS Bold"/>
              </a:rPr>
              <a:t>1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12"/>
          <p:cNvSpPr/>
          <p:nvPr/>
        </p:nvSpPr>
        <p:spPr>
          <a:xfrm>
            <a:off x="6329520" y="761724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4714"/>
                </a:solidFill>
                <a:latin typeface="Trebuchet MS Bold"/>
                <a:ea typeface="Trebuchet MS Bold"/>
              </a:rPr>
              <a:t>2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6815880" y="8785440"/>
            <a:ext cx="221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Hebrew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10141560" y="6372720"/>
            <a:ext cx="150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Jam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10373400" y="7617240"/>
            <a:ext cx="2494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1 Timot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10680480" y="8785440"/>
            <a:ext cx="1780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2 Pet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7171456" presetSubtype="83257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7171456" presetSubtype="832577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8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975"/>
                            </p:stCondLst>
                            <p:childTnLst>
                              <p:par>
                                <p:cTn id="30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325"/>
                            </p:stCondLst>
                            <p:childTnLst>
                              <p:par>
                                <p:cTn id="3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225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7125"/>
                            </p:stCondLst>
                            <p:childTnLst>
                              <p:par>
                                <p:cTn id="3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127080" y="122400"/>
          <a:ext cx="12750840" cy="9524880"/>
        </p:xfrm>
        <a:graphic>
          <a:graphicData uri="http://schemas.openxmlformats.org/drawingml/2006/table">
            <a:tbl>
              <a:tblPr/>
              <a:tblGrid>
                <a:gridCol w="2222280"/>
                <a:gridCol w="3530880"/>
                <a:gridCol w="6997680"/>
              </a:tblGrid>
              <a:tr h="5893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:1f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1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Creation “ex nihilo” by God’s Wor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:1-2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Exodus 20:8-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Creation in 6 days; rest on 7th da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1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Psalm 8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 heavens mad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 Corinthians 4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God commanded light to shin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: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Psalm 19:1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God made the sk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:6,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 Peter 3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Earth formed out of water, by water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0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1:14-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04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36:7-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Isaiah 40:2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Jeremiah 31: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the moon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Stars created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1:20-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Psalm 104:24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Seas filled with lif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:2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Psalm 8:6-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tthew 19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 Corinthians 11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James 3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given rulership over creatio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God created them male and femal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is the image and glory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was made in the likeness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:3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 Timothy 4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Everything created by God is go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1"/>
          <a:stretch/>
        </p:blipFill>
        <p:spPr>
          <a:xfrm>
            <a:off x="0" y="-152280"/>
            <a:ext cx="14755680" cy="1002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27080" y="122400"/>
          <a:ext cx="12750840" cy="9521640"/>
        </p:xfrm>
        <a:graphic>
          <a:graphicData uri="http://schemas.openxmlformats.org/drawingml/2006/table">
            <a:tbl>
              <a:tblPr/>
              <a:tblGrid>
                <a:gridCol w="2133360"/>
                <a:gridCol w="4241880"/>
                <a:gridCol w="6375600"/>
              </a:tblGrid>
              <a:tr h="13316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4:4,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God’s rest on the 7th 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1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2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Corinthians 15:45,4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Timothy 2:1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made of earth, a “living sou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was created before wo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2: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Romans 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Death came through s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: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 Corinthians 11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Woman was created for man’s sak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2:21-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 Corinthians 11: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Woman originated from 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:2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Matthew 19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Verse spoken by “the Creator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2"/>
          <p:cNvSpPr/>
          <p:nvPr/>
        </p:nvSpPr>
        <p:spPr>
          <a:xfrm>
            <a:off x="7078680" y="339840"/>
            <a:ext cx="3162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65240" y="2317680"/>
            <a:ext cx="12674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7173376" presetSubtype="879031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3"/>
          <p:cNvSpPr/>
          <p:nvPr/>
        </p:nvSpPr>
        <p:spPr>
          <a:xfrm>
            <a:off x="3378240" y="5067360"/>
            <a:ext cx="9423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9093240" y="5067360"/>
            <a:ext cx="3708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4356000" y="419040"/>
            <a:ext cx="4292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2332080" y="2076480"/>
            <a:ext cx="8327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are 64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ographical term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88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personal name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and so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20 identifiabl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cultural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specified in the (dispu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first eleven chapters of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In chapters 1 and 2, su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real world” categories are fou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notably in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nesis 2:8-14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0116480" presetSubtype="879037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2"/>
          <p:cNvSpPr/>
          <p:nvPr/>
        </p:nvSpPr>
        <p:spPr>
          <a:xfrm>
            <a:off x="3975120" y="45720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2736720"/>
            <a:ext cx="129920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is no substantial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literary indication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in Genesis 1 and 2 that these chapters are inte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o be taken as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llego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3f691e"/>
                </a:solidFill>
                <a:latin typeface="Trebuchet MS Bold"/>
                <a:ea typeface="Trebuchet MS Bold"/>
              </a:rPr>
              <a:t>legend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d90b00"/>
                </a:solidFill>
                <a:latin typeface="Trebuchet MS Bold"/>
                <a:ea typeface="Trebuchet MS Bold"/>
              </a:rPr>
              <a:t>parable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b7b100"/>
                </a:solidFill>
                <a:latin typeface="Trebuchet MS Bold"/>
                <a:ea typeface="Trebuchet MS Bold"/>
              </a:rPr>
              <a:t>poet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or any other sort of “non-historical” materia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0117248" presetSubtype="90150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-1901880" y="-55440"/>
            <a:ext cx="14897160" cy="99295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3"/>
          <p:cNvSpPr/>
          <p:nvPr/>
        </p:nvSpPr>
        <p:spPr>
          <a:xfrm>
            <a:off x="165240" y="152280"/>
            <a:ext cx="2146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eview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57200" y="-44280"/>
            <a:ext cx="1028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457200" y="2044800"/>
            <a:ext cx="16128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S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419040" y="402588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431640" y="600696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393840" y="8089920"/>
            <a:ext cx="10285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3390840" y="438120"/>
            <a:ext cx="7340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Rectangle 10"/>
          <p:cNvSpPr/>
          <p:nvPr/>
        </p:nvSpPr>
        <p:spPr>
          <a:xfrm>
            <a:off x="3632040" y="2152800"/>
            <a:ext cx="711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nd New Testaments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Rectangle 11"/>
          <p:cNvSpPr/>
          <p:nvPr/>
        </p:nvSpPr>
        <p:spPr>
          <a:xfrm>
            <a:off x="3556080" y="4508640"/>
            <a:ext cx="7340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Rectangle 12"/>
          <p:cNvSpPr/>
          <p:nvPr/>
        </p:nvSpPr>
        <p:spPr>
          <a:xfrm>
            <a:off x="3543480" y="6489720"/>
            <a:ext cx="5333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Rectangle 13"/>
          <p:cNvSpPr/>
          <p:nvPr/>
        </p:nvSpPr>
        <p:spPr>
          <a:xfrm>
            <a:off x="3517920" y="8572680"/>
            <a:ext cx="62355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iterary indication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507960" y="136512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1. Cosmic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841400" y="2235240"/>
            <a:ext cx="107442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(Origin and Development of the Univers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825480" y="3251160"/>
            <a:ext cx="8166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“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825480" y="4114800"/>
            <a:ext cx="1207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507960" y="5270400"/>
            <a:ext cx="5651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2. Chem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1943280" y="6134040"/>
            <a:ext cx="3784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(Origin of Lif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876240" y="7061040"/>
            <a:ext cx="80647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838080" y="8521560"/>
            <a:ext cx="10172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507960" y="1365120"/>
            <a:ext cx="585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3. Bi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1434960" y="2235240"/>
            <a:ext cx="6578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(Origin of Life’s Diversity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711360" y="3124080"/>
            <a:ext cx="81658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507960" y="5486400"/>
            <a:ext cx="5448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4. Cultur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486080" y="6350040"/>
            <a:ext cx="115315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(Origin and Development of Human Societie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939960" y="7238880"/>
            <a:ext cx="100202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1447920" y="1441440"/>
            <a:ext cx="100965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469800" y="440676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587600" y="7365960"/>
            <a:ext cx="98168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3249792" presetSubtype="83256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3249792" presetSubtype="859904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3249792" presetSubtype="859906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1015920" y="1441440"/>
            <a:ext cx="10960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69800" y="4457880"/>
            <a:ext cx="12052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3250560" presetSubtype="832562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838080" y="1644480"/>
            <a:ext cx="11315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69800" y="603252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6090112" presetSubtype="86049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Legion</cp:lastModifiedBy>
  <dcterms:modified xsi:type="dcterms:W3CDTF">2017-07-04T11:54:58Z</dcterms:modified>
  <cp:revision>3</cp:revision>
  <dc:subject/>
  <dc:title>Презентація PowerPoint</dc:title>
</cp:coreProperties>
</file>